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C01-620A-4FDD-8DF8-8D901D7D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640-687C-4A08-ADE3-6599B3A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20A-55D2-4C8F-B758-099F1202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8DD-AD13-45D9-84F3-EF319BE4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760-CAFE-467A-A858-00032F7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965-370C-449F-9CE6-93DBDB3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781-3076-4E86-B690-4F9520D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2D7-58A1-4015-9167-C417E547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946-91C3-4AB6-AE7F-65DF0C2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F3C-9353-4734-8869-BCB86FB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1E6-CB45-4AE1-8FF2-308440CB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3D4-73CB-4D00-8C08-31E1D5A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3953-D541-4AB4-92A3-6DEAE8CB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 Dogs and C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ay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ves are AW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do all types of things like…hunting,howing an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ooooooo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95680" y="3809880"/>
            <a:ext cx="1600200" cy="221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2457360" cy="122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0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C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666880" cy="19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2514600" cy="167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9638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96080" y="152280"/>
            <a:ext cx="130356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867280" y="3352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0" y="3048120"/>
            <a:ext cx="239544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362320" y="4307040"/>
            <a:ext cx="3352680" cy="25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er bre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ers are a inner breed of a lion and a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ers cant live in the wild because there bodes to heavy for there  le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3629160" cy="2527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5:05:43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21T16:44:31Z</dcterms:modified>
  <cp:revision>11</cp:revision>
  <dc:subject/>
  <dc:title>Slide 1</dc:title>
</cp:coreProperties>
</file>